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ension</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is a medical condition in which constricted arterial blood vessels increase the resistance to blood flow, causing the blood to exert excessive pressure against vessel walls. The heart must work harder to pump blood through the narrowed arteries. If the condition persists, damage to the heart and blood vessels is likely, increasing the risk for stroke, heart attack, and kidney or heart failure. Often called “the silent killer”, hypertension usually causes no symptoms until it reaches a life-threatening stag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affects 25 percent of people living in North America. of these, almost a third are unaware of their condition. Until the age of 55, more men than women have hypertensi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k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o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sto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re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eurys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rrh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hypertensiv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hyperten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onsequences of hyperten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hypertension called “the silent kill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ystolic pres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diastolic pres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optimal blood pressure in an adul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physicians categorize hyperten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auses of hyperten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rgan plays a major role in the regulation of blood press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hypertension be treate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y whether the following statements are true or false:</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hypertension, arterial blood vessels decrease the resistance to blood flow.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increases the risk for stroke, heart attack, and kidney or heart failure.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il the age of 55, hypertension affects more women than men.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olic pressure is measured as the heart relaxes to allow blood to flow into the heart.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is defined as blood pressure greater than or equal to 120/80 mm HG.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ians categorize hypertension into four stages: mild, moderate, severe, and very severe.                                                            T     F</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tension forces the heart to work harder to pump adequate blood throughout the body.                                                         T     F</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ds can be derived from the following:</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ri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egoriz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crib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following conditional sentence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he smoked less, his health probl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tor will check your blood pressure if you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he had taken more exercise, sh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would have been in serious trouble if the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take your pills regularly, yo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rug would be approved if the exper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had had the choice, 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ld he get any information there if h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he correct word:</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meeting was really..........................(disappointed/disappoin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for us to ask people about their private lives. (embarrassed/embarrass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looks so....................  Has he been working all day? (exhausted/exhaus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cture was very..................... Many students fell asleep. (bored/bo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was really........................when they offered me a job in this company.  (amazed/amaz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no need to get..........................about that trip. (excited/exci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was......................news for her. (shocked/shocking)</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6"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ication of hyperten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of hyperten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ment of hyperten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1T22:21:07Z</dcterms:modified>
  <cp:revision>20</cp:revision>
  <dc:subject/>
  <dc:title>Slide 1</dc:title>
</cp:coreProperties>
</file>